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F225-1CCC-43E1-A750-2B5D8CD90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4D09-2BAB-4C94-89E9-F69BC87A3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0E1F-A765-4132-88DB-D278FAECD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3BC2-3993-4B96-B6BA-69BEB5CAA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4411-6440-4B20-8BC7-1440C68A4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4F0F-21C6-41CD-B08C-A11F664ED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C69B-71D5-4C8D-AB9F-CFD4F61A4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A927-95B5-4988-8957-DE30F0D19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BAA7-7D78-48EC-A9AA-BC13AEE48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38B3-6662-420A-958F-BA5C50911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560C-0576-4897-B7F6-79C5738E7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0A3E-297E-425F-8151-D13F22C36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1A06-EB03-447A-BAEE-3394B6E21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54CF-3599-49E3-8B3F-32E2DD328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1754-CD9C-411C-B25F-E0421B2F6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91C4-D78E-424D-B32A-480772415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CD77-F261-4943-8303-EDF888F0C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AE5F-DB9D-4A66-9285-9F42BFF67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2AFC-4EF2-4F30-8A92-326644A2B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6507-3C7F-4867-BBB7-72F49BA8B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51DD-5D10-4CDA-BB09-BD1C2D133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27B4-254F-4A23-8056-CB8DE7D60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DFE6-18E7-4098-81F7-E23FD6502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5B2A3-E560-45C8-9F31-467CA9625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79D3E-81D9-44B2-9473-F70136E86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7B921-3907-4F0E-BF78-6E294469D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3E940-D95E-49D0-8BB9-7D5F7C452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961B4-D05D-4A62-A8D9-F5585DD59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F938-7929-44FE-A56E-FBEF26D6A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20BEB-CCBB-4DC6-A8CD-95359B13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5173A-D5BB-43C7-A481-158BA8C79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57487-3E08-4546-90AB-CB0D246D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F30EA-EC2E-47EA-99FC-3B81B5D2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9DDA-D156-41AC-A03D-7545524C8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E3A45-00EF-424F-92D5-A40467B2F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A22F1-5CF1-46AE-A5C7-C33DA0D67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A2932-28EF-4416-8AFC-436DC05A1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0C878-3F33-4B36-9B21-D482573E1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7CE23-4FB8-4880-B78B-A8618E12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22AC9-6423-4D1D-AC31-5DC8B3BA4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BC3F-8E84-44F9-959C-36AF37983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6010-8F76-46C7-AE3A-7BCCD707F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CA62-CD85-4974-A23F-0899FEE12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D568-938E-483F-9037-1B0F31C2F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CCE5-378C-468F-9A5E-CEDA5BE7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7F4B-2A5C-4E09-84BD-EBD9B27A365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1026"/>
          <p:cNvGrpSpPr/>
          <p:nvPr/>
        </p:nvGrpSpPr>
        <p:grpSpPr>
          <a:xfrm>
            <a:off x="0" y="0"/>
            <a:ext cx="9144000" cy="6858000"/>
            <a:chOff x="0" y="0"/>
            <a:chExt cx="9144000" cy="6858000"/>
          </a:xfrm>
        </p:grpSpPr>
        <p:grpSp>
          <p:nvGrpSpPr>
            <p:cNvPr id="59" name="Group 1027"/>
            <p:cNvGrpSpPr/>
            <p:nvPr/>
          </p:nvGrpSpPr>
          <p:grpSpPr>
            <a:xfrm>
              <a:off x="0" y="0"/>
              <a:ext cx="9144000" cy="6858000"/>
              <a:chOff x="0" y="0"/>
              <a:chExt cx="9144000" cy="6858000"/>
            </a:xfrm>
          </p:grpSpPr>
          <p:sp>
            <p:nvSpPr>
              <p:cNvPr id="60" name="Rectangle 1028"/>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029"/>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1030"/>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1031"/>
          <p:cNvGrpSpPr/>
          <p:nvPr/>
        </p:nvGrpSpPr>
        <p:grpSpPr>
          <a:xfrm>
            <a:off x="-10800" y="895680"/>
            <a:ext cx="8454600" cy="1951920"/>
            <a:chOff x="-10800" y="895680"/>
            <a:chExt cx="8454600" cy="1951920"/>
          </a:xfrm>
        </p:grpSpPr>
        <p:sp>
          <p:nvSpPr>
            <p:cNvPr id="64" name="Freeform 1032"/>
            <p:cNvSpPr/>
            <p:nvPr/>
          </p:nvSpPr>
          <p:spPr>
            <a:xfrm rot="21092400">
              <a:off x="0" y="2344680"/>
              <a:ext cx="1681200" cy="27324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033"/>
            <p:cNvSpPr/>
            <p:nvPr/>
          </p:nvSpPr>
          <p:spPr>
            <a:xfrm rot="21092400">
              <a:off x="1862280" y="137124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34"/>
            <p:cNvGrpSpPr/>
            <p:nvPr/>
          </p:nvGrpSpPr>
          <p:grpSpPr>
            <a:xfrm>
              <a:off x="1600200" y="1981080"/>
              <a:ext cx="456840" cy="456840"/>
              <a:chOff x="1600200" y="1981080"/>
              <a:chExt cx="456840" cy="456840"/>
            </a:xfrm>
          </p:grpSpPr>
          <p:sp>
            <p:nvSpPr>
              <p:cNvPr id="67" name="Oval 1035"/>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036"/>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037"/>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38"/>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039"/>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040"/>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041"/>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042"/>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43"/>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FF3A-6936-41C5-8EF1-3690E62E40E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put and Output Device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components of a typical computer display system?</a:t>
            </a:r>
            <a:endParaRPr b="0" lang="en-US" sz="4400" spc="-1" strike="noStrike">
              <a:solidFill>
                <a:srgbClr val="000000"/>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two key components of a computer display system include a graphics card and a display device, such as a monitor or LCD scree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graphics card (also called a “graphics board” or a “video card”) contains circuitry that generates the signals for displaying an image on screen. It also contains special video memory, which stores screen images as they are processed, before they are displaye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difference between a CRT and an LCD?</a:t>
            </a:r>
            <a:endParaRPr b="0" lang="en-US" sz="4400" spc="-1" strike="noStrike">
              <a:solidFill>
                <a:srgbClr val="000000"/>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advantages of an LCD (liquid crystal display) monitor include display clarity, low radiation emission, portability and compactness. Unfortunately, it can be triple the price of an equivalent CRT (Cathode Ray Tube) and they have a limited viewing angl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ich display device produces the best image?</a:t>
            </a:r>
            <a:endParaRPr b="0" lang="en-US" sz="4400" spc="-1" strike="noStrike">
              <a:solidFill>
                <a:srgbClr val="000000"/>
              </a:solidFill>
              <a:latin typeface="Arial Narrow"/>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age quality is a factor of screen size, dot pitch, resolution, and color depth. Typical monitor screen sizes range from 13” to 21”. Dot pitch is a measure of image clarity. Resolution is the number of horizontal and vertical pixels that are displayed on the screen. The number of color that a monitor and graphics card can display is referred to as color depth.</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bout notebook computer display system?</a:t>
            </a:r>
            <a:endParaRPr b="0" lang="en-US" sz="4400" spc="-1" strike="noStrike">
              <a:solidFill>
                <a:srgbClr val="000000"/>
              </a:solidFill>
              <a:latin typeface="Arial Narrow"/>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assive matrix screen relies on timing to make sure the liquid crystal cells are illuminated. As a result, the process of updating the screen image does not always keep up with moving images, and the display can appear blurred. Newer notebooks feature an active matrix screen, sometimes referred to as “TFT” (thin film transistor), which updates rapidly and is essential for a crisp display of animations and video.In the world of notebook computers, SVGA (Super video graphics array) usually means 800X600 resolution. XGA (extended graphics array) usually means 1024X768 resolu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nter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features should I look for in a printer?</a:t>
            </a:r>
            <a:endParaRPr b="0" lang="en-US" sz="4400" spc="-1" strike="noStrike">
              <a:solidFill>
                <a:srgbClr val="000000"/>
              </a:solidFill>
              <a:latin typeface="Arial Narrow"/>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day’s printer technologies include ink jet, solid ink, thermal transfer, dye sublimation laser and dot matrix.</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lution: The quality or sharpness of printed images and text depends on the printer’s resolution-the density of the grid work of dots that create an image. At normal reading distance, a resolution of about 900 dpi (dots per inch) are ok.</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nt speed: is measured either by pages per minute (ppm) or characters per second (cp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most popular type of printer?</a:t>
            </a:r>
            <a:endParaRPr b="0" lang="en-US" sz="4400" spc="-1" strike="noStrike">
              <a:solidFill>
                <a:srgbClr val="000000"/>
              </a:solidFill>
              <a:latin typeface="Arial Narrow"/>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ink jet printers are the more inexpensive and have a good quality.</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day’s ink jet printers have excellent resolution, which can range from 600 dpi to 2880 dpi, depending on the mode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difference between an ink jet printer and a solid ink printer?</a:t>
            </a:r>
            <a:endParaRPr b="0" lang="en-US" sz="4400" spc="-1" strike="noStrike">
              <a:solidFill>
                <a:srgbClr val="000000"/>
              </a:solidFill>
              <a:latin typeface="Arial Narrow"/>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olid ink printer melts sticks of crayon-like ink and then sprays the liquefied ink through the print head’s tiny nozzles. The ink solidifies before it can be absorbed by the paper, and a pair of rollers finishes fusing the ink onto the paper.</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ink jet printer has a nozzle-like print head that sprays ink onto paper to form characters and graphic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bout thermal wax transfer and dye sublimation printers?</a:t>
            </a:r>
            <a:endParaRPr b="0" lang="en-US" sz="4400" spc="-1" strike="noStrike">
              <a:solidFill>
                <a:srgbClr val="000000"/>
              </a:solidFill>
              <a:latin typeface="Arial Narrow"/>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thermal wax transfer printer uses a page-sized ribbon that is coated with cyan, magenta, yellow, and black wax. The print head consists of thousands of tiny heating elements that melt the wax onto specially coated paper or transparency film.</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ye sublimation printer is very similar to the thermal wax transfer printer, but the page-sized ribbon contains dye instead of colored wax.</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s a laser better than an ink jet?</a:t>
            </a:r>
            <a:endParaRPr b="0" lang="en-US" sz="4400" spc="-1" strike="noStrike">
              <a:solidFill>
                <a:srgbClr val="000000"/>
              </a:solidFill>
              <a:latin typeface="Arial Narrow"/>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laser printer uses the same technology as a photocopier to paint dots of light on a light-sensitive drum. Electrostatically charged ink is applied to the drum, then transferred to paper.</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sonal laser printers produce six to eight ppm (pages per minute) at a resolution of 600 dp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xpansion slots, cards, and port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y would anyone want a dot matrix printer?</a:t>
            </a:r>
            <a:endParaRPr b="0" lang="en-US" sz="4400" spc="-1" strike="noStrike">
              <a:solidFill>
                <a:srgbClr val="000000"/>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dot matrix printer produces characters and graphics by using a grid of fine wire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a resolution of 140 dpi, a dot matrix printer produces low-quality output with clearly discernible dots forming letter and graphics.</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fast dot matrix device can print at speeds up to 455 cps-about 5 pages per minut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ow does a computer get data from RAM to a peripheral device?</a:t>
            </a:r>
            <a:endParaRPr b="0" lang="en-US" sz="4400" spc="-1" strike="noStrike">
              <a:solidFill>
                <a:srgbClr val="000000"/>
              </a:solidFill>
              <a:latin typeface="Arial Narrow"/>
            </a:endParaRPr>
          </a:p>
        </p:txBody>
      </p:sp>
      <p:sp>
        <p:nvSpPr>
          <p:cNvPr id="127"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in a computer, data travels from one component to another over circuits called a data bus. One part of the data bus runs between RAM and the microprocessor. Another part of the data bus runs between RAM and various storage devices. That is called expansion bu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an expansion slot?</a:t>
            </a:r>
            <a:endParaRPr b="0" lang="en-US" sz="4400" spc="-1" strike="noStrike">
              <a:solidFill>
                <a:srgbClr val="000000"/>
              </a:solidFill>
              <a:latin typeface="Arial Narrow"/>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s a long, narrow socket on the motherboard into which you can plug an expansion card.</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expansion card is a small circuit board that provides a computer with the ability to control a storage device, an input device, or an output device. Expansion cards are also called “expansion boards”, “controller cards” or “adapters”.</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st desktop computers have four to eight expansion slots, but some of the slots usually contain expansion card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major types of expansion slots?</a:t>
            </a:r>
            <a:endParaRPr b="0" lang="en-US" sz="4400" spc="-1" strike="noStrike">
              <a:solidFill>
                <a:srgbClr val="000000"/>
              </a:solidFill>
              <a:latin typeface="Arial Narrow"/>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 (Industry Standard Architecture) slots are an old technology, used today only for some modems and other relatively slow devices.</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Peripheral Component Interconnect) slots offer fast transfer speeds and a 32-bit or 64-bit data bus. These slots typically house a graphics card, sound card, video capture card, modem, or network interface card.</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P (Accelerated Graphics Port) slots provide a high-speed data pathway that is primarily used for graphics card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o notebook computers also contain expansion slots?</a:t>
            </a:r>
            <a:endParaRPr b="0" lang="en-US" sz="4400" spc="-1" strike="noStrike">
              <a:solidFill>
                <a:srgbClr val="000000"/>
              </a:solidFill>
              <a:latin typeface="Arial Narrow"/>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st notebook computers are equipped with a special type of external slot called a PCMCIA slot (Personal Computer Memory Card International association). Typically, a notebook computer has only one of these slots, but the slot can hold more than one PC card (also called “PCMCIA expansion cards” or “Card Bus Card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is an expansion port?</a:t>
            </a:r>
            <a:endParaRPr b="0" lang="en-US" sz="4400" spc="-1" strike="noStrike">
              <a:solidFill>
                <a:srgbClr val="000000"/>
              </a:solidFill>
              <a:latin typeface="Arial Narrow"/>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is any connector that passes data in and out of a computer or peripheral device. Ports are sometimes called “jacks” or “connector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expansion port is often housed on an expansion card so that it is accessible through an opening in the back of the computer’s system unit.</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major types of expansion cables?</a:t>
            </a:r>
            <a:endParaRPr b="0" lang="en-US" sz="4400" spc="-1" strike="noStrike">
              <a:solidFill>
                <a:srgbClr val="000000"/>
              </a:solidFill>
              <a:latin typeface="Arial Narrow"/>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so many types of ports, you can expect a corresponding variety of cables. If a cable is supplied with a peripheral device, you can usually figure out where to plug it in by matching the shape of the cable connector to the port. If you have to purchase a cable, you’ll need to know the correct type and design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isplay Device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27:48Z</dcterms:created>
  <dc:creator>Marcos Teixiera</dc:creator>
  <dc:description/>
  <dc:language>en-US</dc:language>
  <cp:lastModifiedBy>pienaark</cp:lastModifiedBy>
  <dcterms:modified xsi:type="dcterms:W3CDTF">2008-10-11T04:52:26Z</dcterms:modified>
  <cp:revision>3</cp:revision>
  <dc:subject/>
  <dc:title>Input and Output Devices</dc:title>
</cp:coreProperties>
</file>